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F3F-2A7C-4726-ACD1-52814D27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3BE-3024-4CD7-B634-D409F63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150-161A-4181-AD94-A56926C3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743-61CB-47CD-870C-1B32F8F8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892-79A5-4112-8791-F2F5A2A9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068-AC13-4310-A665-2614DD1E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A58-C463-4863-BC51-B252DC0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A05-F858-4D31-B435-61EDDF17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F71-465D-4A74-9019-D81A6C5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3F8-9888-4093-91EC-8D76E6A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662-4294-4A66-9092-4C38CC01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574-AD1E-4FAB-B720-96E7EDC4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2744-21E9-4F2A-87EB-703CC57A0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79360"/>
            <a:ext cx="86281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v-SE" sz="5400" spc="-1" strike="noStrike">
                <a:solidFill>
                  <a:srgbClr val="000000"/>
                </a:solidFill>
                <a:latin typeface="Times New Roman"/>
              </a:rPr>
              <a:t>Motion Analy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Optical flow comput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9144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5400" spc="-1" strike="noStrike">
                <a:solidFill>
                  <a:srgbClr val="000000"/>
                </a:solidFill>
                <a:latin typeface="Times New Roman"/>
              </a:rPr>
              <a:t>And now some theor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2873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67080" y="2819520"/>
            <a:ext cx="533520" cy="1371600"/>
          </a:xfrm>
          <a:prstGeom prst="downArrow">
            <a:avLst>
              <a:gd name="adj1" fmla="val 50000"/>
              <a:gd name="adj2" fmla="val 6427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295280" y="4267080"/>
                <a:ext cx="6116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∂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2603880" y="2971800"/>
            <a:ext cx="428040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ylor series expansion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eglecting higher order terms for smal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d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d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971800" y="1447920"/>
                <a:ext cx="12034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438280" y="2362320"/>
                <a:ext cx="43578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750960" y="18288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1: Brightness of any object point is constant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6640" y="13716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24480" y="41144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523880" y="41144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05520" y="411444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286000" y="5638680"/>
                <a:ext cx="449100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809880" y="4876920"/>
                <a:ext cx="1524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355200" y="53352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cal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1920" y="83808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rture problem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2: Velocity smooth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1752480"/>
                <a:ext cx="6275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82560" y="129528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squar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1240" y="3657600"/>
          <a:ext cx="42415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1240" y="3657600"/>
                    <a:ext cx="42415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433960" y="29718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(i,j)=0, v(i,j)=0, for all i,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962520"/>
            <a:ext cx="1219320" cy="16002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9337" y="19756"/>
                </a:moveTo>
                <a:arcTo wR="-9075" hR="-9075" stAng="5956592" swAng="-11763485"/>
                <a:lnTo>
                  <a:pt x="12075" y="21524"/>
                </a:lnTo>
                <a:arcTo wR="10800" hR="10800" stAng="4993107" swAng="11763485"/>
                <a:lnTo>
                  <a:pt x="12976" y="-2523"/>
                </a:lnTo>
                <a:lnTo>
                  <a:pt x="15918" y="1567"/>
                </a:lnTo>
                <a:lnTo>
                  <a:pt x="11828" y="450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438280" y="5257800"/>
                <a:ext cx="16779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82560" y="23623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533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ALGORITHM FOR DYNAMIC IMAG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295280"/>
            <a:ext cx="861048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- Initialize velocity vectors c(i,j)=0 for all (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2- Let k denote the number of iterations. Compute u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for all pixels (i,j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he partial derivatives f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can be estimated from the pair of consecutive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3- Stop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is the maximum permitted error; return to step 2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14600" y="2514600"/>
          <a:ext cx="476244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476244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ALGORITHM FOR IMAG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295280"/>
            <a:ext cx="86104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- Evaluate starting values of the optical flow c(i,j) for all (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2- Let m denote the sequence number of the currently processed image. For all pixels (i,j) of the next image, evalu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3- Repeat step 2 to process all images in th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362320" y="2895480"/>
          <a:ext cx="501012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895480"/>
                    <a:ext cx="50101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3600000">
            <a:off x="2480040" y="3615480"/>
            <a:ext cx="228096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4400000">
            <a:off x="4038480" y="4952520"/>
            <a:ext cx="761760" cy="609480"/>
          </a:xfrm>
          <a:prstGeom prst="left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600000">
            <a:off x="2437920" y="2210040"/>
            <a:ext cx="761760" cy="609480"/>
          </a:xfrm>
          <a:prstGeom prst="left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9000000">
            <a:off x="3885840" y="365724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1520" y="5335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pertur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219320"/>
            <a:ext cx="5257800" cy="5105160"/>
          </a:xfrm>
          <a:prstGeom prst="donut">
            <a:avLst>
              <a:gd name="adj" fmla="val 35629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21932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49568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971800"/>
            <a:ext cx="2819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819520"/>
            <a:ext cx="29718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3600000">
            <a:off x="2764800" y="4109040"/>
            <a:ext cx="2281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4400000">
            <a:off x="4322160" y="5446080"/>
            <a:ext cx="762120" cy="609840"/>
          </a:xfrm>
          <a:prstGeom prst="leftArrow">
            <a:avLst>
              <a:gd name="adj1" fmla="val 50000"/>
              <a:gd name="adj2" fmla="val 312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3600000">
            <a:off x="2722680" y="2703240"/>
            <a:ext cx="762120" cy="609840"/>
          </a:xfrm>
          <a:prstGeom prst="leftArrow">
            <a:avLst>
              <a:gd name="adj1" fmla="val 50000"/>
              <a:gd name="adj2" fmla="val 312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9000000">
            <a:off x="3885840" y="365724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41520" y="5335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pertur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21932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49568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971800"/>
            <a:ext cx="2819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819520"/>
            <a:ext cx="29718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219320"/>
            <a:ext cx="5257800" cy="5105160"/>
          </a:xfrm>
          <a:prstGeom prst="donut">
            <a:avLst>
              <a:gd name="adj" fmla="val 35629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3600000">
            <a:off x="2820240" y="4207320"/>
            <a:ext cx="2281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4146480" y="544320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007800" y="2903400"/>
            <a:ext cx="761760" cy="609480"/>
          </a:xfrm>
          <a:prstGeom prst="left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9000000">
            <a:off x="3885840" y="365724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41520" y="5335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pertur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21932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49568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971800"/>
            <a:ext cx="2819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2819520"/>
            <a:ext cx="29718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1219320"/>
            <a:ext cx="5257800" cy="5105160"/>
          </a:xfrm>
          <a:prstGeom prst="donut">
            <a:avLst>
              <a:gd name="adj" fmla="val 35629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3600000">
            <a:off x="2820240" y="3769200"/>
            <a:ext cx="2281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146480" y="500508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007800" y="2465280"/>
            <a:ext cx="761760" cy="609480"/>
          </a:xfrm>
          <a:prstGeom prst="left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0">
            <a:off x="3885840" y="365724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1520" y="5335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pertur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1932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49568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971800"/>
            <a:ext cx="2819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2819520"/>
            <a:ext cx="29718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219320"/>
            <a:ext cx="5257800" cy="5105160"/>
          </a:xfrm>
          <a:prstGeom prst="donut">
            <a:avLst>
              <a:gd name="adj" fmla="val 35629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3600000">
            <a:off x="2764800" y="4109040"/>
            <a:ext cx="2281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800000">
            <a:off x="3886200" y="548604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9000000">
            <a:off x="3123720" y="2666880"/>
            <a:ext cx="762120" cy="609840"/>
          </a:xfrm>
          <a:prstGeom prst="leftArrow">
            <a:avLst>
              <a:gd name="adj1" fmla="val 50000"/>
              <a:gd name="adj2" fmla="val 312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9000000">
            <a:off x="3885840" y="365724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41520" y="5335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pertur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21932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49568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971800"/>
            <a:ext cx="2819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819520"/>
            <a:ext cx="29718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1219320"/>
            <a:ext cx="5257800" cy="5105160"/>
          </a:xfrm>
          <a:prstGeom prst="donut">
            <a:avLst>
              <a:gd name="adj" fmla="val 35629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9144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5400" spc="-1" strike="noStrike">
                <a:solidFill>
                  <a:srgbClr val="000000"/>
                </a:solidFill>
                <a:latin typeface="Times New Roman"/>
              </a:rPr>
              <a:t>First a few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1" lang="sv-SE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pl</a:t>
            </a:r>
            <a:r>
              <a:rPr b="1" lang="sv-SE" sz="54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2873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3600000">
            <a:off x="2936160" y="3921840"/>
            <a:ext cx="22809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800000">
            <a:off x="4114800" y="525744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9000000">
            <a:off x="3276360" y="2514240"/>
            <a:ext cx="761760" cy="609480"/>
          </a:xfrm>
          <a:prstGeom prst="leftArrow">
            <a:avLst>
              <a:gd name="adj1" fmla="val 50000"/>
              <a:gd name="adj2" fmla="val 31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9000000">
            <a:off x="3885840" y="3657240"/>
            <a:ext cx="990720" cy="228600"/>
          </a:xfrm>
          <a:prstGeom prst="leftArrow">
            <a:avLst>
              <a:gd name="adj1" fmla="val 50000"/>
              <a:gd name="adj2" fmla="val 10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41520" y="5335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pertur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21932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495680"/>
            <a:ext cx="7391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971800"/>
            <a:ext cx="281916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2819520"/>
            <a:ext cx="2971800" cy="182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5257800" cy="5105160"/>
          </a:xfrm>
          <a:prstGeom prst="donut">
            <a:avLst>
              <a:gd name="adj" fmla="val 35629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0600" y="3581280"/>
            <a:ext cx="3733920" cy="3070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971880" cy="3467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678" t="14486" r="24651" b="35617"/>
          <a:stretch/>
        </p:blipFill>
        <p:spPr>
          <a:xfrm>
            <a:off x="914400" y="2819520"/>
            <a:ext cx="33908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9144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5400" spc="-1" strike="noStrike">
                <a:solidFill>
                  <a:srgbClr val="000000"/>
                </a:solidFill>
                <a:latin typeface="Times New Roman"/>
              </a:rPr>
              <a:t>And now some practising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12873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2440" y="3048120"/>
            <a:ext cx="416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: tracking intru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93320" y="274320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M. Is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32004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8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or-driven facial ani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8080" y="2743200"/>
            <a:ext cx="126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B. Bas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video ed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3320" y="259092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M. Is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0481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-user inte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3320" y="266688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M. Is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43400" y="3048120"/>
            <a:ext cx="4343400" cy="3341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metrics: Body 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191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e the systematic motio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8080" y="2666880"/>
            <a:ext cx="126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B. Bas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81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pplications: Echocardiogram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19112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191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e the systematic motio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440" y="2666880"/>
            <a:ext cx="13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Gary Jac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30481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-visual speech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191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ote the systematic motio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83280" y="268596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Juergen Luet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495680" cy="328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09:19:15Z</dcterms:created>
  <dc:creator>Ghassan Hamarneh</dc:creator>
  <dc:description/>
  <dc:language>en-US</dc:language>
  <cp:lastModifiedBy>NEUEZ Gael</cp:lastModifiedBy>
  <dcterms:modified xsi:type="dcterms:W3CDTF">2000-11-27T12:57:33Z</dcterms:modified>
  <cp:revision>20</cp:revision>
  <dc:subject/>
  <dc:title>No Slide Title</dc:title>
</cp:coreProperties>
</file>